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842-3FDE-411B-BE42-98170670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740-DEDF-4057-8EAC-92ACE0A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112-20DE-438F-95BF-6E8BBBC3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7E9-0A0D-4BA8-8BF7-859A545D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136-1B35-47A7-93D2-73FA33F0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4A0-31B1-41EA-BA60-5039378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92E-6B0B-4E19-B1D7-8CA9800B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302-6A4C-400E-89F2-E048E853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91D-4671-4022-AB52-55E152F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277-F516-4D26-9AAE-5C1AFA7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201-5026-496C-8856-B477E81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BEA-29C8-4459-9C45-FB5DBF71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D32-2D13-466B-9AA6-D69FC039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hyperlink" Target="mailto:hzumaeta@renaissancecharter.or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8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8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30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continuamos el repaso para el examen d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st for Reading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 QUIZ; DUE BY MIDNIGHT TONIGH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: GRAMMA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atica Self-Check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mitting the quiz, complete the bottom section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TEACHER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zumaeta@renaissancecharte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4:30:58Z</dcterms:created>
  <dc:creator>Helen Zumaeta</dc:creator>
  <dc:description/>
  <dc:language>en-US</dc:language>
  <cp:lastModifiedBy>Helen Zumaeta</cp:lastModifiedBy>
  <dcterms:modified xsi:type="dcterms:W3CDTF">2013-01-22T19:10:46Z</dcterms:modified>
  <cp:revision>3</cp:revision>
  <dc:subject/>
  <dc:title>Me llamo _______ Clase 8 im La fecha es el 18 de enero del 2013</dc:title>
</cp:coreProperties>
</file>